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ACF-268E-46E0-96D6-C5CD6D15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E32-FE61-47A4-8C4B-233160BA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B2F-0653-4867-9EE7-3E35C08E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307-D2B5-4FC8-9540-520A2AFB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46A3-876B-4131-A46C-9E474E76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4E96-BDA9-48DC-AC10-BB74184C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59D2-B7A8-4E6B-8A85-10B3D832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9742-0038-4138-8349-52E7817D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B2A1-CA25-41F9-8FF1-3C2C819F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A5B-12F7-45F8-9BC7-B73B09A1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C788-0618-4D37-B028-BE4E3FC5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7C9-7656-4604-844F-D1BD9E7F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1704-8F9F-487B-8C29-15CAE3B6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8381-4DA8-42B2-B058-3E6621A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D322-0A76-4DC8-9728-6FB0B80F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0F54-B3DF-4277-A852-D1333493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D0F3-1378-4AF7-8FF8-78A03900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1C2E-F326-4B28-BBA9-C6FD929C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306A-5B5C-4742-AC35-71F7C3E5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F9D5-64E1-439E-B379-8B81BA5A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4528-EB1A-4FB1-8B4F-8EDD5A0D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9AB4-EC23-4EEC-9A5C-44BA6DD3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31C-2E3A-4328-810C-C7CD8E8B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FFE8-DC62-4E93-B2C7-5B0EE615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976E-A937-4F51-8596-BE1C680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BFB0-6953-4731-8F01-D384D350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99BD-D65D-49A0-9290-7CB3A5D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094C-46FA-432E-8244-CB0942CA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D8AF-B1ED-4E5E-893B-4853B0B5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152D-D8A8-4183-94BB-52BA0FF4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A99B-986F-4FA5-834B-44A3BD48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1C718-C7C3-4A42-A330-81185E87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DC13-9EAF-4F67-9D08-77C779F2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65E-4A75-48F1-A6ED-E0031771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779C-3DD2-4B7D-9D01-5E3FDC82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0C822-FB2A-4DEB-8ECC-2B7356EE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6C7B-DD8F-4970-A53C-95C7FFB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8139-D1A2-4F42-946B-B139B327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0B2F-E953-462D-B666-9135817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E52E-CA66-46A5-8AF5-C8F7B3D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F161-4232-4876-AFC1-AD7A0A2D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4DE6-8443-407E-B840-580273B5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77DD-0712-426A-A747-98AA8107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1FB01-4B90-41A2-AC70-AADF0311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4A6-D700-468D-9FF2-11179A79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33775-EBEE-4350-A6C1-6562020E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CFD3E-AF13-47D7-B3B1-74255B54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DBBA3-0A8B-4DCA-AC58-0B604410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E647-B64C-47DD-9BBB-E304941C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B0582-877D-44D3-95F4-7978146D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9EFA-6B9E-4DF2-8545-C8E47F8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A8AAB-25A0-4958-B558-FA24ECA8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610D-0261-40C9-8F23-9CDBC63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212A0-5F53-4C40-B868-8B38E2CF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7BFD-6A7A-4D97-9061-EAFB93D3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E7F-ECB4-4E33-80C4-3BF99A13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87C57-AFDC-4C12-A653-91707279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1841-17D6-48DC-885C-E9586F55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AC130-37D1-4375-B679-7F510D6D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8717C-A4D7-4881-87C6-A69C1979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FF72-7582-438B-9DCB-A85953E2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CAE8-2BCA-483E-B779-2051E439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C718C-AC0C-412C-8CA3-279DF626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C1510-22E5-44F8-B7E1-EBD17DF4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4DFB-5134-487F-A81E-689FAA74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5EDCA-6CA5-43F5-BBD4-3046500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DE0-9212-46D6-8CF4-E9E92254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DAF6-EFA7-48CC-8ADC-2B06242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902D-5CD6-4169-B1D8-0F33A341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7320B-5BA4-48AA-9B13-6D4BD9A9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D97A-61BC-4D1F-93B4-D1183949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F811-4F9B-441C-846D-C2516F1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0E243-A842-4669-8720-A999230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7146-30E5-46F8-B680-76192853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BC8A0-37C7-45EF-B77E-8F3AC289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AF3B5-718B-4FC8-8C71-86B8300B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7060C-6758-4F03-B1B7-352D7A4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B77-93EA-4444-AF88-583D6CA2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F5C9F-4867-4656-9F7F-7C8AF5BA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93D6-957C-47B0-8FDF-7FC526A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84667-644A-495E-853B-371DE2D5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0754D-BB9E-44A8-BF6C-3C2AFF28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3B26C-6D0B-4283-8745-38B50E2C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F9B89-78AB-4977-A84F-B6DB2273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41C20-E2F8-4293-94DC-4F70E950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8E39E-D0FC-429D-BF6B-8E26537B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451B5-352E-47BE-A6A6-50BD65DE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C746C-6770-4FE4-A7C3-64D4DEF8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AE7-1FD1-47FF-AC08-E1777495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7F775-AFC6-4647-8B85-92EE4A3D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6B94C-E133-4FBF-BC53-3C835B4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613B3-E5BA-47A1-A929-B7664924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91306-0DC8-4EE8-B73A-5CE68A70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CCEFB-64CA-46EF-9045-BA1D049B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00FA6-7BAF-41FE-B6FD-FCC4A766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12B4-FE53-46C6-B6C9-DDB5C274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672F-47B3-49ED-A626-C288B22188D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59A9-BEBE-4D24-AED3-E200A9D47CB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BCCC-4C28-4E4B-9A4C-F819A725FF9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A773-3629-4E66-8FEE-9548C7566F8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21F4-2BD8-4D20-8BEF-C0066560EE3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DD8D-B816-4293-9F37-85DEF685038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EDF4-2D90-4A65-BCA9-4E4C2867263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131D-A4D9-4165-A3F0-1CE7B6093B8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6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228600" y="4191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6.1% of O’Gorman students scored a 4 or 5 while only 25.1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92.2% of O’Gorman students passed the test while 54.5% passed the test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1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80880" y="762120"/>
          <a:ext cx="8229600" cy="5462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Van Engen, Jason</cp:lastModifiedBy>
  <dcterms:modified xsi:type="dcterms:W3CDTF">2016-07-17T17:45:06Z</dcterms:modified>
  <cp:revision>29</cp:revision>
  <dc:subject/>
  <dc:title>2011 AP English  Literature and Composition Results</dc:title>
</cp:coreProperties>
</file>